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26E3-C7BD-4045-8F3E-C13EADC171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8476-3CE8-4F95-992B-2DA883CCB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6893-F61D-4463-BBD1-CF2C1FD49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B6DC-669C-4AC6-BD52-19478C4AB8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948F-813E-42C4-BD04-4F0632FF90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B079-B51D-448C-A948-91F2AFDE8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2D89-9063-4E3A-BF7C-3888362E2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C8AB-0649-4FCA-AD47-9FCA31F88D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EBBB-56CA-4037-BCE0-BED535CC9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2D49-81FB-4027-A9B6-D14FC4D60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DE27-01D5-49F8-92A3-E3294C35FF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25FC-E61B-46FA-A9F6-CB78F2A2E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232C-2637-4BC3-A681-273C9F74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6005-5CC1-467A-864A-A468E6F3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32CD-457C-4A01-B3CE-701E3FA0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AC31-219C-49AB-A266-1CF21381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3896-1CA7-4789-8F56-73E4FD6C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676F-B1CC-40C2-A462-45AE6E7F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DEAA-ED8E-48B7-B1EC-9BF74943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73F7-F310-4A04-94EC-B26A30EF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4290-3DF9-4297-AA7F-6CFFE355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FD7E-35DF-4203-96D3-8D7905A1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3A5F-717D-4509-8443-0049C7E0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177D-D625-47CB-BD19-36375B90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FF00-36E1-4AEA-9B82-4C047A02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630E-8E1A-4A8A-9D8E-F9C3E119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C169-9AD1-423B-8A85-D17C7AE9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627D-21CA-4392-A760-35FD9BFB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5B4D-BCEE-4188-A30A-CA276A7D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BC6F-2BBA-44FB-AA3D-357E0046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2BB2-824D-474B-B213-3F3A4A7B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7099-A042-4576-9FCE-CE50412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ADAE-3402-4F0A-BEA5-43ACA959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2DE9-AF88-4AE8-81AD-AEE7029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3D9D-042E-48AA-9B81-DE8B473E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FF7D-DAE7-4275-AE2F-B4B8B219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7735-896E-4D03-809A-C1EF161656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05F4-C3FA-46CA-AD1D-1FD2AE23685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033A-168D-4F2F-986F-8C26FCBD428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961C-570A-4E02-BCB0-622470EAFB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18E2-BAE5-4021-A53D-5C31E8840AA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071A-524B-41DE-BE98-E184A9D947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95640" y="1052280"/>
            <a:ext cx="7478640" cy="30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МКБ-10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в статистике смертн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при травмах и отравл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067280" y="4365720"/>
            <a:ext cx="460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йсман Давид Алекс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ндидат медицинских нау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дущий научный сотру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ГБУ «ЦНИИОИЗ» Минздрава Р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й эксперт Сотрудничаю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 ВОЗ в России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ификации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0633-A706-486B-84CF-28D72A431D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0698-DFBF-41C3-9DDC-DE275316D669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ждой строке п. 19 «Свидетельства»  записывается «своя» причина смер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осредств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межуточ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ходная предшествовавш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чина при травмах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вл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чины смер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начальная причина смер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ричина смерти, отобранная для статистической разраб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7BA8-1A0D-492B-866E-F6E8B19D0D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7E2C-26BD-4836-A24F-329DF1786A6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79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нкт 19 «Медицинского свидетельства о смерти» должен быть заполнен на основании первичной медицинской документации – «посмертного эпикриз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тором должен быть четко отражен рубрифицированный заключительный судебно-медицинский посмертный диагно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с осложнениями, сгруппированными по степени тяже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яя причина «основного» состояния – травмы в формулировке МКБ-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овые, конкурирующие и сопутств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я, травмы, отравл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267E-A258-4E95-BCB5-05FCBF7E93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C909-3A14-4ACC-BB36-82BD9D71038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равмах и отравлениях применя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йное код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один код из кла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д характера травмы, второй – код внешней причины (класс ХХ). В мировой статистике код внешней причины считается основным, а код характера травмы – дополнитель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йской Федерации при травмах и отравлениях используют оба кода как равнозначные, что не противоречит мировой статистике и позволяет подробно анализировать трав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E665-5AB6-4BD3-8EF5-3752F0B656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FFBB-B846-419B-9C8C-DCFC9A84C83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азличных причин смерти в «Свидетельстве» производится в строгом соответствии с установленными требован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заполнения «Свидетельства» – сверху вн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ждой строке ча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сывается тольк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чина (состояние), при этом может быть заполнена строка а), строки а) и б) или строки а), б) и 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роке г) записывается внешняя п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равмах и отравл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84D-D4B9-4C59-ADE3-0BAF1212B3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A1E3-0699-47D6-A757-BBD6E696537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557280" y="922680"/>
            <a:ext cx="802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лнение части I пункта 19 Свидетельства производится в обра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к основному состоянию с осложнения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ировка «основного» состояния – травмы заносится, как прави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троку подпункт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выбирается 1 - 2 осложнения, из котор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ют «логическую последовательность», и записыв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на строках подпункто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состояние, записанное строкой ниж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 являться причиной возникновения состоя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нного строкой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улировке диагноза в Свидетельстве след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только те термины, которые позволяют устано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травмы, например, травматическое субдур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оизлияние, разрыв легкого, перелом диафиза бедренной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ях, когда характер травмы определить невозмож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ют код Т07 «Множественные неуточненные травм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5CF9-C0CF-49E9-A113-893696CD08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1CC1-D80C-4BA8-8929-52549C05286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53080" y="556560"/>
            <a:ext cx="878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трок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а быть записана формулировка внешней прич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ющая объективно установленным обстоятельствам происшествия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олкновение пешехода с легковым автомобилем, трав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шехода, дорожный несчастный случа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еднамеренное самоповреждение путем повешения в гараж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падение с применением острого предмета, на улиц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асть II пункта 19 судебно-медицинский эксперт, с учетом особен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ого случая, вносит еще 1-2 другие тяжелые трав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квалифицируемые как «основное» состо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44280" y="4437000"/>
            <a:ext cx="731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же в этой части записывают те сопутствующие «основном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ю травмы, отравления, заболевания или патолог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, а также фоновые и конкурирующие состоя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имелись у погибшего и способствовали его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тяжелили «основную» травму и ускорили наступление смерт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7569-32C9-41B1-8AC5-1F74584E13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8D00-B0F2-4CEC-AC8A-C67F5A3E098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травмы, как правило, являются множественными, то в качестве «основного» состояния следует указывать только одну, основную, наиболее тяжелую травму, а в сопутствующих состояниях – еще 1-3 другие наиболее значимые трав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«основной» травмы может быть записана тольк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зологическая единица. Нозологическая единица – это травма, обозначенная в МКБ-10 самостоятельной рубрикой или подрубр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ка травмы в терминах МКБ-10 – это нозологический компонент диагноза, который должен быть всегда указан, что необходимо для правильного подбора соответствующего к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9FC8-A0A8-4831-BCE7-81E0DC053D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3A99-D5E7-48D4-BEE2-9F4CB8B9F58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64800" y="689760"/>
            <a:ext cx="88585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ж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р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 включает ожоги нескольких областей те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цируемые более чем одной из рубрик Т20-Т2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кализация ожога должна быть уточн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ражено несколько областей тела, нужно выбрать только одн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которой и наступила смерть, и ее записы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а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ункта 19 Свидетельства, а другие локализации ожо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ют в ча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рубри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 «Ожоги не уточненной локализации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р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1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2 – являются дополнительными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олж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ся в качестве первоначальной причины см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этой целью следует применять только рубри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E1C9-5AC3-4E61-9AF9-7A84373F9C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2FCA-0AB2-41EC-8C54-9AC23345649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1280" y="836640"/>
          <a:ext cx="7848360" cy="4843440"/>
        </p:xfrm>
        <a:graphic>
          <a:graphicData uri="http://schemas.openxmlformats.org/drawingml/2006/table">
            <a:tbl>
              <a:tblPr/>
              <a:tblGrid>
                <a:gridCol w="5630760"/>
                <a:gridCol w="992160"/>
                <a:gridCol w="330120"/>
                <a:gridCol w="223920"/>
                <a:gridCol w="223920"/>
                <a:gridCol w="223920"/>
                <a:gridCol w="223560"/>
              </a:tblGrid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птический шок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рмический ожог туловища третьей степен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_______________________________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действие пожара в здании школ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ое опьянение острое (содерж. в крови 2,5 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й алкогол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28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5EE7-DEE4-4932-AC36-7BD4E160E3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1B03-7C1D-44B5-82B3-6BBDBE064CE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шние причины смерт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1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ных бл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счас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ные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9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внешние причины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амоубий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Убий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5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Повреждения с неопределенными намере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е использ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5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6 – действия, предусмотренные законом и военные 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4 – осложнения терапевтических и хирургических вмеша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5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9 – последствия воздействия внешних при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8 – дополните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5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500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500"/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500"/>
                                        <p:tgtEl>
                                          <p:spTgt spid="1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249F-2A29-4E39-B976-3E46E0F442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BDF5-E0A2-42EA-AB7D-C3F393D1D75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ждународная статистическая классификация болезней, сокращенно называемая МКБ, – это система рубрик, в которые конкретные нозологические единицы включены в соответствии с принятыми критериями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F739-2BC8-4DDA-B0F6-8F735804F0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F841-F106-4290-93A2-1D537310824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ка внешней причины должна соответствовать травме, а также п.п.15 и 16 свиде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 та же внешняя причина содержится в каждом из вышеуказанных бло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утопление: может быть – случайным, в результате самоубийства, убийства и с неопределенными намер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есение внешней причины к тому или иному блоку определяется обстоятельствами случившегося и должно соответствовать п.15, а обстоятельства случившегося должны быть записаны в п.16 свидетельства о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тый знак кодов внешних причин (для рубр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, за исключением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6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7) – это код места происшествия (см. т.2 МКБ-10, стр. 37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5262-711C-43DA-911E-DE5E749F42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9A4A-1AEA-485B-92F3-F8A6D1B3A20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4360" y="1413000"/>
          <a:ext cx="7920000" cy="4660920"/>
        </p:xfrm>
        <a:graphic>
          <a:graphicData uri="http://schemas.openxmlformats.org/drawingml/2006/table">
            <a:tbl>
              <a:tblPr/>
              <a:tblGrid>
                <a:gridCol w="5667120"/>
                <a:gridCol w="1127160"/>
                <a:gridCol w="225360"/>
                <a:gridCol w="223920"/>
                <a:gridCol w="225360"/>
                <a:gridCol w="225720"/>
                <a:gridCol w="22536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нутрибрюшное кровотечение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зрыв печен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крытая рана передней брюшной стенк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ападение с применением острого предме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а улиц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ое опьянение острое (содерж. в крови 3 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256"/>
          <p:cNvSpPr/>
          <p:nvPr/>
        </p:nvSpPr>
        <p:spPr>
          <a:xfrm>
            <a:off x="1480320" y="62064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ры оформления свидетельств при травмах и отра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3B02-1244-4913-B189-FBCE74F249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0A51-752B-440E-BF14-65B59486A2E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55640" y="907920"/>
          <a:ext cx="7704000" cy="4746600"/>
        </p:xfrm>
        <a:graphic>
          <a:graphicData uri="http://schemas.openxmlformats.org/drawingml/2006/table">
            <a:tbl>
              <a:tblPr/>
              <a:tblGrid>
                <a:gridCol w="5527800"/>
                <a:gridCol w="973080"/>
                <a:gridCol w="325440"/>
                <a:gridCol w="218880"/>
                <a:gridCol w="219240"/>
                <a:gridCol w="220680"/>
                <a:gridCol w="218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нородное тело в трахее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Вдыхание пищи, приводящее к закупорк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ахеи, дом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ое опьянение острое (содерж. в крови 2 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28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BBD0-0612-4F28-BE7E-8068189DDA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A49E-49EE-49BE-ABD7-225C491F6ADF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71640" y="907920"/>
          <a:ext cx="7213680" cy="4918320"/>
        </p:xfrm>
        <a:graphic>
          <a:graphicData uri="http://schemas.openxmlformats.org/drawingml/2006/table">
            <a:tbl>
              <a:tblPr/>
              <a:tblGrid>
                <a:gridCol w="5141160"/>
                <a:gridCol w="907200"/>
                <a:gridCol w="30204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мерзание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____________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_________________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Воздействие чрезмерно низкой природн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мпературы, на улице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ое опьянение острое (содерж. в крови 3 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й обструктивный бронх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8D2F-F2A7-4294-9FDD-E9413FC03A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C784-9BF2-4EE4-A5A5-B1F6630C490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26920" y="981000"/>
          <a:ext cx="7490160" cy="4548240"/>
        </p:xfrm>
        <a:graphic>
          <a:graphicData uri="http://schemas.openxmlformats.org/drawingml/2006/table">
            <a:tbl>
              <a:tblPr/>
              <a:tblGrid>
                <a:gridCol w="5366160"/>
                <a:gridCol w="945360"/>
                <a:gridCol w="315360"/>
                <a:gridCol w="216000"/>
                <a:gridCol w="216000"/>
                <a:gridCol w="216000"/>
                <a:gridCol w="2160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топление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___________________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Случайное утопление в результате падения в ре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ое опьянение острое (содерж. в крови 2 ‰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A930-97AD-4BF4-9AC2-9718B67639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5E04-C133-464C-9B6B-F4D4AE40BB3F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1640" y="836640"/>
          <a:ext cx="7488000" cy="4807080"/>
        </p:xfrm>
        <a:graphic>
          <a:graphicData uri="http://schemas.openxmlformats.org/drawingml/2006/table">
            <a:tbl>
              <a:tblPr/>
              <a:tblGrid>
                <a:gridCol w="5364000"/>
                <a:gridCol w="945000"/>
                <a:gridCol w="31572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душение, вызванное повешением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Преднамеренное самоповреждение путе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вешения, в гараж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ре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3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F88F-811E-418D-ADCA-EE4A446B88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A9BB-0474-4F2D-AA3F-1A7FCBB596B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403280" y="1125360"/>
            <a:ext cx="63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рядок статистического учета и код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ояний, связанных с употреблением психоактивных веществ, в соответствии с МКБ-1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ГБУ «ЦНИИОИЗ», г. Москва,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8402-9701-4733-B762-F1FCB8498C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6FE6-2E68-446F-B6E0-B06FD549172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042920" y="1557360"/>
          <a:ext cx="7277040" cy="4633920"/>
        </p:xfrm>
        <a:graphic>
          <a:graphicData uri="http://schemas.openxmlformats.org/drawingml/2006/table">
            <a:tbl>
              <a:tblPr/>
              <a:tblGrid>
                <a:gridCol w="5192280"/>
                <a:gridCol w="916200"/>
                <a:gridCol w="30492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диогенный шок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стрый инфаркт миокарда передней стенк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Отравление героино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еднамеренное самоотравление героином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ом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употребление алкоголем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употребление флунитразепам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9" name="Text Box 523"/>
          <p:cNvSpPr/>
          <p:nvPr/>
        </p:nvSpPr>
        <p:spPr>
          <a:xfrm>
            <a:off x="1327320" y="692280"/>
            <a:ext cx="64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ы оформления свидетельств при отравл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277A-3793-4D0E-8550-479DD9B5B8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2EEA-5C54-4BBE-99A2-03E335C3ECA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71640" y="765000"/>
          <a:ext cx="7488000" cy="5316840"/>
        </p:xfrm>
        <a:graphic>
          <a:graphicData uri="http://schemas.openxmlformats.org/drawingml/2006/table">
            <a:tbl>
              <a:tblPr/>
              <a:tblGrid>
                <a:gridCol w="5364000"/>
                <a:gridCol w="945000"/>
                <a:gridCol w="31572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ек мозга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ксическая энцефалопат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Отравление амфетамино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равление амфетамином с неопределенным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амерениями, на улиц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употребление героином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употребление флунитразепам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, с проявлениями множественных инф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28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м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28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D05B-82F7-4E57-BE8A-0203D87182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D54A-5C79-45D8-BA7D-B3F4966A5AF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00000" y="981000"/>
          <a:ext cx="7417080" cy="4508640"/>
        </p:xfrm>
        <a:graphic>
          <a:graphicData uri="http://schemas.openxmlformats.org/drawingml/2006/table">
            <a:tbl>
              <a:tblPr/>
              <a:tblGrid>
                <a:gridCol w="5307480"/>
                <a:gridCol w="934200"/>
                <a:gridCol w="31212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ксическая энцефалопат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ксическое действие этилового спирт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лучайное отравление этиловым спиртом, дома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ая интоксикация этиловым спи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10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10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13FE-3EE0-4A08-8D67-8CE245D4CF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9CD1-9992-4C64-B47A-F0FC2695031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Цель международной классификации болезней –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34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оздание условий для систематизированной регистрации, анализа, интерпретации и сравнения данных о заболеваемости и смертности, полученных в разных странах или регионах  и в разное время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5404-626E-4F01-AE82-324655DD8E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5313-7785-4B23-9060-485ED3C0B9A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11280" y="62064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имеется сочетание психических расстройст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званных употреблением алкоголя, и заболе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званных употреблением алкого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 в качестве первоначальной причины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ирают заболевания, вызванные употреблением алког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11280" y="2276640"/>
          <a:ext cx="7993080" cy="3992400"/>
        </p:xfrm>
        <a:graphic>
          <a:graphicData uri="http://schemas.openxmlformats.org/drawingml/2006/table">
            <a:tbl>
              <a:tblPr/>
              <a:tblGrid>
                <a:gridCol w="5734080"/>
                <a:gridCol w="1011240"/>
                <a:gridCol w="336600"/>
                <a:gridCol w="226800"/>
                <a:gridCol w="228600"/>
                <a:gridCol w="227160"/>
                <a:gridCol w="228600"/>
              </a:tblGrid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омбоэмболия легочной артери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ибрилляция предсерди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лкогольная кардиомиопатия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______________________                                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_______________________________________________________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дром зависимости от алког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ый гепати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EFBB-86D6-4907-AA0B-F06DABBDAC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6CF8-24E1-4CF5-B744-45C0FB1AC0A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971640" y="836640"/>
          <a:ext cx="7416720" cy="5160960"/>
        </p:xfrm>
        <a:graphic>
          <a:graphicData uri="http://schemas.openxmlformats.org/drawingml/2006/table">
            <a:tbl>
              <a:tblPr/>
              <a:tblGrid>
                <a:gridCol w="5306760"/>
                <a:gridCol w="934200"/>
                <a:gridCol w="31212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ек мозг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барахноидальное кровоизлияние из церебраль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ой артер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ксическое действие окиси углерод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лучайное отравление окисью углерода,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ом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еросклеротический кардиосклер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рроз печ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0EFA-847B-4294-B84F-F24DE20762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DC8E-2A6B-4620-BE99-029BC0D1A86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835280" y="548640"/>
            <a:ext cx="58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ные несчастные случа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00-V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756000" y="1117440"/>
            <a:ext cx="770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нкте 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идетельства в случае транспорт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частного случая отмеча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есчастный случай, не связанный или связанный с производство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чай, связанный с производством отмечаю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место происшествия совпадает с местом работы погибш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 подпункты пункта 15 в случае транспор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частных случаев выбраны быть не мог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84360" y="3141720"/>
            <a:ext cx="80172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нкте 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идетельства указывают: число, месяц, год, врем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происшествия и обстоятельства, при которых произошла трав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тоятельства ДТП должны быть обязательно взяты из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 или материалов доследственной прове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сведения по степени информативности должны быть достато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й формулировки и кодирования внешней прич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частного случа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044360" y="5157360"/>
            <a:ext cx="714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нкте 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лучае смерти только от ДТП отмечаю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какого времени наступила смерть: в течение 30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их: в течение 7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D0E2-9544-48F5-9503-B9048AF212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20A7-7219-4556-824E-731E818CFF6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97800" y="478440"/>
            <a:ext cx="830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идетельстве должны быть правильно отраж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тоятельства транспортного несчастного случая (п. 16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я дорожно-транспортное происшествие (ДТП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анспортного несчастного случая, включая ДТП – пеше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ь; пассажир; лицо, находящееся снаружи транспортного сред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ное сре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елосипед; мотоцикл; автомобиль (легк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кап или фургон; грузовой; автобус); трамвай; троллейбу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ое транспортное сред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ым условием транспортного несчастного случая, включая ДТП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нахождение транспортного средства в движ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 транспортного несчастного случ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ключая ДТП – столкно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ругим транспортным средством (указать каким), столкнов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закрепленным или стационарным объектом (указать каким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кидывание, без столкновения, другие обстоятель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ТП классифицируется тогда, когда местом происшествия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бщественная магистраль [шоссе] или улиц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ые несчастные случаи, которые произошли вне общест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истрали или улицы, должны квалифицироваться как недор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532A-2CDE-4483-99C6-53FEB2DCD2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F478-6431-42D9-9411-AFF65727DAD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87600" y="1125360"/>
            <a:ext cx="769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одир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а трав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ранспортных несчастных случаях используют преимуществ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ы клас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Травмы, отравления и некоторые дру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ствия внешних причин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одирования осложнений травм могут применя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ы других классов МКБ-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825480" y="3429000"/>
            <a:ext cx="753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классе раздел, обозначенный букв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для кодирования различных видов трав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ящихся к определенным областям те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раздел с буквой Т – для кодирования множественных трав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равм отдельных неуточненных областей те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отравлений и некоторых других следствий внешних прич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EDAC-DE9C-43C2-962B-8A10E2B155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C13F-A1FE-48D3-BB80-D64B9AC3499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61160" y="1342440"/>
            <a:ext cx="817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личии единичной травмы, послужившей причиной смер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первоначальной причины выбирается эта единичная трав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сложнениями, и она указывается на строка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), 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указ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й последовательнос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заголовок рубрики  указывает на множественный 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вмы, союз «с» означает одновременное поражение обе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ных локализаций, а союз «и» - как одной, так и обеих локализац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39.6 Травма внутрибрюшного(ых) органа(ов) с тазовым(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ом(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01.5 Открытая рана губы и полости р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173A-3A00-4DD6-B6CA-516AB7B399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3BD-4D8D-4216-AF87-C0D7F66886B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62"/>
          <p:cNvSpPr/>
          <p:nvPr/>
        </p:nvSpPr>
        <p:spPr>
          <a:xfrm>
            <a:off x="179280" y="702000"/>
            <a:ext cx="8512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жественное кодирование можно применять в пределах рубр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ногих рубриках имеются подрубрики с четвертым знаком .7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означения множественных травм одного тип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азивших одну и ту же область 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, для обозначения 2-х и более травм в пределах данной рубри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02.7 Множественные переломы черепа и лицевых кост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следних рубриках каждого блока имеются подрубр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четвертым знаком .7 –  для множественных трав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ных типов, поразивших одну и ту же часть те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09.7 Множественные травмы голо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равмы, классифицированные в более чем одной из рубрик  S00-S09.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множественных травмах, поразившие разные части те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ко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07 «Множественные неуточненные травмы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ды Т00-Т06 использовать не следу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B869-7220-497F-94FB-8FA19444A6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0F8A-346F-425B-A871-4CF6F70348A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23080" y="1195200"/>
            <a:ext cx="809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дировании первоначальной причины смер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польз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самостоятельных коды рубрик со звездочкой («*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КБ-10, 2 т., стр.28), а также коды, перечисленные в таблице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КБ-10, 2 т., стр. 7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равма упоминается с диагноз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бня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произошла вследств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пилеп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ервоначальной причиной смерти следует считать эти заболе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оверхностные травмы, относя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рубрик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9.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0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ются с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ептококковым сепсис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40.-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м сепсис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41.-) 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46.Х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ервоначальной причиной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ет считать эти заболе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10E3-3BEA-4EAA-ACE5-D1F29A5238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2ACD-65AA-4AED-BEFE-76776DF7217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2"/>
          <p:cNvSpPr/>
          <p:nvPr/>
        </p:nvSpPr>
        <p:spPr>
          <a:xfrm>
            <a:off x="976680" y="1267920"/>
            <a:ext cx="728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первоначальной причины смер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характеру трав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 обновлениями ВОЗ 1996-2012 г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ся с 2013 года в соответствии с ранговой таб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3"/>
          <p:cNvSpPr/>
          <p:nvPr/>
        </p:nvSpPr>
        <p:spPr>
          <a:xfrm>
            <a:off x="614160" y="2716560"/>
            <a:ext cx="804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таблицу следует использовать и при выборе «основной» трав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ескольких травм у погибшего. При этом при двух и более трав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«основного» состояния и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ют ту травму, у которой ранговое число мен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имеются две тяжелые травмы с одинаковым ранговым числ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выбор «основной» травмы в каждом конкретном случае производ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ебно-медицинским экспер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патогенеза травмы и механизма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3C97-8299-4FF8-A6B3-9BAAC8EDCC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431A-E02F-40A8-9CDE-BE4B15BDD44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3"/>
          <p:cNvSpPr/>
          <p:nvPr/>
        </p:nvSpPr>
        <p:spPr>
          <a:xfrm>
            <a:off x="756720" y="1268280"/>
            <a:ext cx="765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рожный несчастный слу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любой несчастный случай, связанный с моторным транспорт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м, произошедший на общественной автомагист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т.е. начинающийся, заканчивающийся или части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ный с нахождением этих средств на автомагистрали]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4"/>
          <p:cNvSpPr/>
          <p:nvPr/>
        </p:nvSpPr>
        <p:spPr>
          <a:xfrm>
            <a:off x="1185120" y="3284640"/>
            <a:ext cx="676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ственная автомагистраль [шоссе] или улиц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ширина полосы между границами владений или друг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ительными линиями участка земли, открытог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щественности с целью перемещения отдельных л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имущества согласно закону или традиция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BA34-F1B6-494F-B183-09220BE8EC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EC6B-2D7E-480D-BE12-40E625793A7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798840" y="1025280"/>
            <a:ext cx="756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Б-10 – официальный юридический 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каз Президента России от 20.08.1991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б обеспечении экономической основы суверенитета РСФС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ряжение Председателя Верховного Со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 от 14.01.1992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 переходе Российской Федерации на принят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международной практике систему учета и статист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здрава России № 170 от 25.05.1997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 переходе органов и учреждений здравоохранения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 на Международную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истическую классификацию болезней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проблем, связанных со здоровьем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X пересмотра»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C2D8-6A2A-4C13-9E27-3B11E98286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7E14-C82C-44E0-80AE-A7795B18F88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и кодирования внешних причин при ДТ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окидывание (без столкновения) включено в рубр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8.- (МКБ-10, т. 1, ч. 2, стр. 388). Если опрокидывание транспортного средства произошло на автомагистрали или улице, то такой несчастный случай относят к ДТ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лицо пострадало при посадке или высадке из транспортного средства, не находящегося в движении, то такой несчастный случай к транспортным несчастным случаям не относ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ичиной ожога явился пожар, начавшийся внутри движущегося транспортного средства, то внешнюю причину кодируют как происшествие со столкновением с другим транспортным средством или без него (МКБ-10, том 1, часть 2, стр. 38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бстоятельства ДТП неизвестны, то необходимо выдать предварительное Свидетельство до уточнения сведений, а для кодирования неуточненного ДТП использовать рубрику внешней причины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9.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ADA8-BAEE-43B5-9AD1-1D5667F413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85FE-777D-4366-9DFF-F8A3A0225931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1484280"/>
          <a:ext cx="7775280" cy="4632480"/>
        </p:xfrm>
        <a:graphic>
          <a:graphicData uri="http://schemas.openxmlformats.org/drawingml/2006/table">
            <a:tbl>
              <a:tblPr/>
              <a:tblGrid>
                <a:gridCol w="5564160"/>
                <a:gridCol w="1106280"/>
                <a:gridCol w="220680"/>
                <a:gridCol w="220680"/>
                <a:gridCol w="220680"/>
                <a:gridCol w="222120"/>
                <a:gridCol w="2206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1800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ек головного мозга травматическ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ровоизлияние субдуральное травматическо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елом основания череп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олкновение пешехода с легковым автомобилем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авма пешехода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орожный несчастный случа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елом тела бедренной 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лкогольное опьянение острое (содержание в крови 2 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7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9" name="Text Box 266"/>
          <p:cNvSpPr/>
          <p:nvPr/>
        </p:nvSpPr>
        <p:spPr>
          <a:xfrm>
            <a:off x="1830960" y="476280"/>
            <a:ext cx="537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ы заполнения п.19 свидетельств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анспортных несчастны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DB53-D689-4625-B288-CBD00DB0DF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65AD-4402-459B-96E5-05862AB6996F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71640" y="692280"/>
          <a:ext cx="7488000" cy="5499000"/>
        </p:xfrm>
        <a:graphic>
          <a:graphicData uri="http://schemas.openxmlformats.org/drawingml/2006/table">
            <a:tbl>
              <a:tblPr/>
              <a:tblGrid>
                <a:gridCol w="5340240"/>
                <a:gridCol w="1063800"/>
                <a:gridCol w="217440"/>
                <a:gridCol w="217440"/>
                <a:gridCol w="217440"/>
                <a:gridCol w="216000"/>
                <a:gridCol w="215640"/>
              </a:tblGrid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иповолемический травматический шок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авматический гемопневмоторак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зрыв левого легк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олкновение легкового и тяжелого грузовог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втомобилей, травма пассажира легковог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втомобиля, дорожный несчастный случа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ножественные переломы ключицы, лопатки и плечевой 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ножественные переломы ре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28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28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2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5576-2317-44C5-A3DA-4F10D74B9A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8863-905B-40D3-A8D8-58FC7CC0008F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55640" y="907920"/>
          <a:ext cx="7632720" cy="4913280"/>
        </p:xfrm>
        <a:graphic>
          <a:graphicData uri="http://schemas.openxmlformats.org/drawingml/2006/table">
            <a:tbl>
              <a:tblPr/>
              <a:tblGrid>
                <a:gridCol w="5462640"/>
                <a:gridCol w="1084320"/>
                <a:gridCol w="217440"/>
                <a:gridCol w="217440"/>
                <a:gridCol w="217440"/>
                <a:gridCol w="216000"/>
                <a:gridCol w="21744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авматический шо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авма нескольких внутрибрюшных орган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___________________________________________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олкновение велосипеда с трактором, травм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лосипедиста-водителя, недорожный несча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луча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ножественные переломы пояснично-крестцового отдела позвоночника и костей т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D155-F4BA-4783-9B95-87D2FA31A2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1F33-F69B-4789-B927-C550787B194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95280" y="335160"/>
            <a:ext cx="828684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и кодирования последствий трав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ледствия следует использовать для обозначения состоя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казанных в рубриках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0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9 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0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8, в качестве причины отдал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ледствий, которые сами классифицированы в других рубри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«последствие» включ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 состояния как таковые или как отдаленные эффек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храняющиеся в течение года или более после острой трав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наличии формулировок и кода «Последстви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трока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), б), в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раздел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- обязательно заполнение строк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оследствия воздействия внешних причин смертности»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5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ы «Последствий травм и отравлений» должны соответств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ам «Последствий воздействия внешних причин смертност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тырехзначные подрубрики (4-й знак) необходимо уточ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части 2 первого тома МКБ-10 (стр. 508-509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95640" y="4508640"/>
          <a:ext cx="4968720" cy="1858680"/>
        </p:xfrm>
        <a:graphic>
          <a:graphicData uri="http://schemas.openxmlformats.org/drawingml/2006/table">
            <a:tbl>
              <a:tblPr/>
              <a:tblGrid>
                <a:gridCol w="2333520"/>
                <a:gridCol w="26352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следствий тра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отравл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«Последст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я внеш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 забол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мерт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90-Т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9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9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94EE-54AF-4CFD-AFCF-A591D4997B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5623-FC75-4ED3-B1A4-0D3737050E6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1404000" y="1484280"/>
            <a:ext cx="653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сокращения ошибок при оформл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их свидетельств о смер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ем мире примен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атизированные системы, позволя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одить автоматическое кодирован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атический вы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начальной причины смер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дает возможность получения достов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формации о смер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561B-BC1E-4881-BF0E-5742E9D37C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B889-CBC4-49B9-A117-5930004662D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1258920" y="191628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людение всех правил МКБ-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воляет полу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оверную международно сопоставим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формацию о заболеваемости и смертност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х показател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я здоровья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D69F-1FF7-41E8-99ED-98FCA02DD3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031E-931E-4AA0-9A0D-6DBD4FBB274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2625120" y="270828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723280" y="5373720"/>
            <a:ext cx="26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 dv55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FC62-5493-4FAF-A4E2-C48A34030B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8588-53B6-4DE5-AA4F-D5673A3115F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код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спитальной статистике кодируется только основное заболевание (осложнения основного заболевания, фоновые, конкурирующие и сопутствующие болезни не кодируютс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мбулаторно-поликлинической статистике кроме основного заболевания кодируются все другие имеющиеся заболевания, кроме осложнений основной боле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учае смерти кодируется только первоначальная причина смерти, которая иногда не совпадает с формулировкой заключительного клинического или патологоанатомического (судебно-медицинского)  диагн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61EB-6424-453C-81F1-11532FD9CC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00FA-710B-493C-936F-A132F4639E6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2420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тистика смер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651E-363A-44F1-99E3-A81F1BB530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E698-B1DB-4829-95E6-1031E5CD0BC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цепция первоначальной причины смер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оначальная причина смерт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езнь или травма, вызвавшая цепь событий, непосредственно приведших   к см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стоятельства несчастного случая или акта насилия, которые вызвали смертельную трав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0BF3-CB1F-4BE9-80B2-CEB2322CD2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367B-F75E-43BC-A857-CE619F12FF5D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«первоначальной причины смерти» продиктовано тем, что, выстроив цепь событий, приведших к смерти, можно в ряде случаев повлиять на нее, с целью предотвращения смер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определение кас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оначальной причины по характ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в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C534-E54B-4C90-8A29-978A112DFE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933B-7A6E-4D7C-A66C-082B0E512C31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20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ная форма № 106/у-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дицинское свидетельство о смерти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тверждена приказ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здравсоцразвития РФ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.12.08 г. № 782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7:25:22Z</dcterms:created>
  <dc:creator>Admin</dc:creator>
  <dc:description/>
  <dc:language>en-US</dc:language>
  <cp:lastModifiedBy>Ольга Елкина</cp:lastModifiedBy>
  <dcterms:modified xsi:type="dcterms:W3CDTF">2015-01-12T08:25:13Z</dcterms:modified>
  <cp:revision>39</cp:revision>
  <dc:subject/>
  <dc:title>Слайд 1</dc:title>
</cp:coreProperties>
</file>